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1.png" ContentType="image/png"/>
  <Override PartName="/ppt/media/image19.jpeg" ContentType="image/jpeg"/>
  <Override PartName="/ppt/media/image42.jpeg" ContentType="image/jpeg"/>
  <Override PartName="/ppt/media/image26.jpeg" ContentType="image/jpeg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25.wmf" ContentType="image/x-wmf"/>
  <Override PartName="/ppt/media/image8.jpeg" ContentType="image/jpeg"/>
  <Override PartName="/ppt/media/image43.jpeg" ContentType="image/jpeg"/>
  <Override PartName="/ppt/media/image5.png" ContentType="image/png"/>
  <Override PartName="/ppt/media/image30.wmf" ContentType="image/x-wmf"/>
  <Override PartName="/ppt/media/image6.jpeg" ContentType="image/jpeg"/>
  <Override PartName="/ppt/media/image32.png" ContentType="image/png"/>
  <Override PartName="/ppt/media/image34.wmf" ContentType="image/x-wmf"/>
  <Override PartName="/ppt/media/image35.wmf" ContentType="image/x-wmf"/>
  <Override PartName="/ppt/media/image3.jpeg" ContentType="image/jpeg"/>
  <Override PartName="/ppt/media/image15.png" ContentType="image/png"/>
  <Override PartName="/ppt/media/image24.jpeg" ContentType="image/jpeg"/>
  <Override PartName="/ppt/media/image37.wmf" ContentType="image/x-wmf"/>
  <Override PartName="/ppt/media/image39.wmf" ContentType="image/x-wmf"/>
  <Override PartName="/ppt/media/image41.png" ContentType="image/png"/>
  <Override PartName="/ppt/media/image40.jpeg" ContentType="image/jpeg"/>
  <Override PartName="/ppt/media/image44.jpeg" ContentType="image/jpeg"/>
  <Override PartName="/ppt/media/image36.wmf" ContentType="image/x-wmf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31.wmf" ContentType="image/x-wmf"/>
  <Override PartName="/ppt/media/image7.jpeg" ContentType="image/jpeg"/>
  <Override PartName="/ppt/media/image23.wmf" ContentType="image/x-wmf"/>
  <Override PartName="/ppt/media/image28.jpeg" ContentType="image/jpeg"/>
  <Override PartName="/ppt/media/image38.wmf" ContentType="image/x-wmf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13B5F3-2A86-477C-892C-E8292EA4A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0E61FA-498B-402E-AC2B-487E8BBA0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EDE8D9-4E52-4D42-AEEB-9C8497C91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3EDF9C-FD49-441A-A6F2-9665CC098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6ECD28-28D6-4C2F-9571-2AE60CF5A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62173E-50D5-4D48-9142-82BD2BB5F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B8DE11-2861-4470-9C5D-6E9527A10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2A1F0A-255E-4BC5-BC1D-CD9D45E64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CD03CD-B335-4D03-A42B-B13BADEBD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44CDF9-4E16-41FC-A9B3-FC3D35BD4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04907E-15DA-4646-96C7-47D5C23C2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3D84EB-10D7-4ED5-8C43-33C35F2AA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201C05-B67F-4524-B42F-0940DC199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A9F3F5-7B02-4F56-AF33-4213C3BA9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1D27D8-732E-4249-848F-450C1A1FE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20A9C6-2E46-4961-9A3C-CD6679943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8FCD70-CAB5-439D-BEB6-C3102ED5D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21DD08-DC21-4145-8B28-ACE7DE310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78545F-6E06-4D14-94AF-181915EA8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23A216-DFC4-4A34-B110-9EAC189C1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09E128-8621-42C4-9312-E5EDEED7F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2F563E-44AF-46D0-B14C-B82EB4443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0E283F-1FD7-46F9-A8EC-B70B0E02F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3ACBC9-4E14-4A6F-A07B-AF06578A4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31B335-6874-441D-B16D-1255FED19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B7B63-688E-4016-847E-613C4AD6DD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0B33E-B169-4ECD-8796-44757C845B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8803E-5174-46CD-9AB9-74B06D2825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EF43B-9B31-4451-95AE-F9666F8479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5DF5-9C91-4CBF-A2DC-B878F0C9B82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3B06-BA32-4D4D-8109-DBBEA19B43C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0A85-911A-47A8-8EE6-FE637576ADF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06C1-11AE-43C9-BFF0-BBDE2BCF7C0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6607-47DC-44F5-AECB-A6E8EF3E67D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FB69-5607-4031-AB2E-1222975710D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C895-1AD4-49D6-97B0-AB4BF15D0D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372C9-9F2F-42AD-8B55-C0EA1196C0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432C-949E-4E76-A681-CD790265C62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A1E9-B382-446C-9A7B-7514EC00EB8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48D3-51DB-4D11-8866-564665768A0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51BC-BD10-4AD8-91BB-9155534F061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78C3-8DA4-4C27-97DC-3C7819D736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EA838-3EA8-4189-A7BA-9EC359B6AA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124AE-CBC9-49A7-AFC4-7F77FFD57D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315F3-4807-4C13-AD08-902C8168AB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7CC63-0ABE-49AC-BF7A-07A96C0EA6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6CA02-8385-466B-A45E-3758882936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67306-3146-4A2C-BF32-B3B0B80CEC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0D59B-3FEC-4E59-AB42-F787AC89E3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9402B-9B65-47DA-83DB-02794977F2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3687D-F2D2-4BEE-B0C6-3DBF24E945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image" Target="../media/image38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image" Target="../media/image28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Text Box 16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Verdana"/>
              </a:rPr>
              <a:t>Organis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2999-EE94-4F11-AE86-938726BF26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304920" y="38088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Cheminement de l’échantill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7" descr="Capture3"/>
          <p:cNvPicPr/>
          <p:nvPr/>
        </p:nvPicPr>
        <p:blipFill>
          <a:blip r:embed="rId1"/>
          <a:srcRect l="0" t="16987" r="0" b="0"/>
          <a:stretch/>
        </p:blipFill>
        <p:spPr>
          <a:xfrm>
            <a:off x="228600" y="1523880"/>
            <a:ext cx="8381880" cy="37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5B42E-AB6C-46D2-A9E9-8CF4EA424E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43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Organization Chart 3"/>
          <p:cNvGrpSpPr/>
          <p:nvPr/>
        </p:nvGrpSpPr>
        <p:grpSpPr>
          <a:xfrm>
            <a:off x="380880" y="1935000"/>
            <a:ext cx="6172200" cy="3773520"/>
            <a:chOff x="380880" y="1935000"/>
            <a:chExt cx="6172200" cy="3773520"/>
          </a:xfrm>
        </p:grpSpPr>
        <p:sp>
          <p:nvSpPr>
            <p:cNvPr id="205" name="AutoShape 4"/>
            <p:cNvSpPr/>
            <p:nvPr/>
          </p:nvSpPr>
          <p:spPr>
            <a:xfrm>
              <a:off x="380880" y="1935000"/>
              <a:ext cx="6172200" cy="37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6" name="_s1029"/>
            <p:cNvCxnSpPr>
              <a:stCxn id="207" idx="1"/>
              <a:endCxn id="208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09" name="_s1031"/>
            <p:cNvCxnSpPr>
              <a:stCxn id="210" idx="3"/>
              <a:endCxn id="208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11" name="_s1032"/>
            <p:cNvCxnSpPr>
              <a:stCxn id="208" idx="0"/>
              <a:endCxn id="212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13" name="_s1034"/>
            <p:cNvCxnSpPr>
              <a:stCxn id="214" idx="0"/>
              <a:endCxn id="215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16" name="_s1035"/>
            <p:cNvCxnSpPr>
              <a:stCxn id="212" idx="0"/>
              <a:endCxn id="215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15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200" spc="-1" strike="noStrike">
                  <a:solidFill>
                    <a:srgbClr val="ffffff"/>
                  </a:solidFill>
                  <a:latin typeface="Arial"/>
                </a:rPr>
                <a:t>Directeur</a:t>
              </a:r>
              <a:br>
                <a:rPr sz="2200"/>
              </a:br>
              <a:r>
                <a:rPr b="1" lang="fr-FR" sz="2200" spc="-1" strike="noStrike">
                  <a:solidFill>
                    <a:srgbClr val="ffffff"/>
                  </a:solidFill>
                  <a:latin typeface="Arial"/>
                </a:rPr>
                <a:t> laboratoir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Biologis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 respons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Responsable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 qualité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en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ICI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ICI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Line 40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42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44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5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firmière surveill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6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firmiè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47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50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Directeur d’hô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27D4B-B9B5-4AB5-8BBD-547032A744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sponsabl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xigence ISO151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responsabilité et l’autorité pour superviser la conform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apporte directement aux décid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5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j0240719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9A276-9DAC-46B6-A14B-04A5D6BA4F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sponsabilités du responsabl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trôler le système de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ssurer la conform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voir tous les regist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uire et coordonner les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hercher les défic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nformer les décid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1594C-F2B2-40A7-85D7-B2EB61E282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lanif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approches varient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elon la situation lo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 nombreux facteurs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fluencent le point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 dé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clure tous les élément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ns le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ut être mis en oeuvr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ar éta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5" descr="MCBD07022_0000[1]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3E1CA-6157-4D75-B197-A54EEF7739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7" descr="MCj00905430000[1]"/>
          <p:cNvPicPr/>
          <p:nvPr/>
        </p:nvPicPr>
        <p:blipFill>
          <a:blip r:embed="rId1"/>
          <a:srcRect l="45571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Gardez à l’espr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mmuniquer, soyez transpa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des échéance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fais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velopper des objectif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listes et mesur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finir des priorités,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éder par ét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8322A-9B4F-4539-9FCE-723FE20784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0" descr="19_gap_analysis"/>
          <p:cNvPicPr/>
          <p:nvPr/>
        </p:nvPicPr>
        <p:blipFill>
          <a:blip r:embed="rId1"/>
          <a:stretch/>
        </p:blipFill>
        <p:spPr>
          <a:xfrm>
            <a:off x="5181480" y="2666880"/>
            <a:ext cx="3733920" cy="2880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75960" y="137160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terminer les carences en utilisant une check-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velopper une list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e tâ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inir des priorité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3240" indent="-17424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abord ce qui peut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être résolu rapid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3240" indent="-17424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terminer ce qui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ra le plus d’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duire une analyse des carences (Gap analysis)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4876920" y="213372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Analyse des carences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18055-36A2-49C6-8C72-6023ADD5E7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nalyse des car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roblèmes couramment identifié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emande d’analy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 l’échantill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Niveau de formation du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ersonnel tech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ntrôle qual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rocessus analy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nregistrement et compte-rendu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’analy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s réactifs et de l’équipement demande d’analy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5" descr="MCj03983870000[1]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CA0FE-6A3A-4F91-81F9-B74C3C766D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Rédaction du plan qui devrait contenir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2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e qui devrait être fa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qui sera respons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quand (calendri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ressources nécess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points de réfé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3"/>
          <p:cNvSpPr/>
          <p:nvPr/>
        </p:nvSpPr>
        <p:spPr>
          <a:xfrm>
            <a:off x="304920" y="5105520"/>
            <a:ext cx="868680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doit être disponible pour tout le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62702-AB47-442E-B511-DA1864B35F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6" descr="MCj04325520000[1]"/>
          <p:cNvPicPr/>
          <p:nvPr/>
        </p:nvPicPr>
        <p:blipFill>
          <a:blip r:embed="rId1"/>
          <a:stretch/>
        </p:blipFill>
        <p:spPr>
          <a:xfrm>
            <a:off x="5867280" y="3886200"/>
            <a:ext cx="3124440" cy="335268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ise en oeuv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engager à term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éparer une mise en oeuvre par éta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assurer que les ressources sont disponi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er un tableau de Gan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certain que chacun connait ses responsabil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puis al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7"/>
          <p:cNvSpPr/>
          <p:nvPr/>
        </p:nvSpPr>
        <p:spPr>
          <a:xfrm>
            <a:off x="3124080" y="6156360"/>
            <a:ext cx="350532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Verdana"/>
              </a:rPr>
              <a:t>commenc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0CF7B-035C-469D-9FC6-22AC46F5B8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 la fin de ce module les participants seront en mesure d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écrire les éléments organisationnels nécessaires à un système de gestion de la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iscuter  les rôles et les responsabilités dans un système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pliquer le processus de conception, de mise en œuvre, de maintenance et d’amélioration du système qualité au laborato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pliquer l’intérêt d’un manuel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620A5-5AEA-46A6-89D0-8D2E33AC3F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Tableau de Gan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19_gnatt_chart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733DD-E837-4ED6-9E46-AB957DBE0F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Fournir des res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xigences financière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esoins du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sonnel supplémentai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mpétences, formation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stallations, équipement,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, ordin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5" descr="MCj01570510000[1]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2" descr="pipetting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0" descr="j0195384"/>
          <p:cNvPicPr/>
          <p:nvPr/>
        </p:nvPicPr>
        <p:blipFill>
          <a:blip r:embed="rId3"/>
          <a:stretch/>
        </p:blipFill>
        <p:spPr>
          <a:xfrm>
            <a:off x="5867280" y="4419720"/>
            <a:ext cx="179568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FFA29-16B0-44D2-B323-2A1EE047E4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16" descr="j0386161"/>
          <p:cNvPicPr/>
          <p:nvPr/>
        </p:nvPicPr>
        <p:blipFill>
          <a:blip r:embed="rId1"/>
          <a:stretch/>
        </p:blipFill>
        <p:spPr>
          <a:xfrm>
            <a:off x="6915240" y="1905120"/>
            <a:ext cx="2228760" cy="335268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de la conform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ssigner les responsabil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velopper des indicateu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tablir un système de contrô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uire des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vue de 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2" descr="MCj02120510000[1]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30E42-91F3-44C7-9209-DF9113408F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 Inter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meeting_asia_1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276DE-F1CC-4D5E-8505-E276A91F11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"/>
          <p:cNvSpPr/>
          <p:nvPr/>
        </p:nvSpPr>
        <p:spPr>
          <a:xfrm>
            <a:off x="685800" y="457200"/>
            <a:ext cx="67057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’est ce que le manuel qualité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ocument qui décrit entièrement le système de gestion de la qualité d’une organis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pe essenti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sponsabilité de la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10" descr="manuals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6A057-F3CE-45B3-B613-5D95F630FB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munique l’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rt de cadre pour répondre aux exigences du système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montre l’engagement de la direction dans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511AD-7E48-48D3-AD73-8B6A8EBAB5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11" descr="MCPE07250_0000[1]"/>
          <p:cNvPicPr/>
          <p:nvPr/>
        </p:nvPicPr>
        <p:blipFill>
          <a:blip r:embed="rId1"/>
          <a:stretch/>
        </p:blipFill>
        <p:spPr>
          <a:xfrm>
            <a:off x="4419720" y="342900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Tenir à jour le 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mmunique les lignes de condu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doit être approuvé par la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requiert une 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ise j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6" descr="MCj04099450000[1]"/>
          <p:cNvPicPr/>
          <p:nvPr/>
        </p:nvPicPr>
        <p:blipFill>
          <a:blip r:embed="rId2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22549-8F60-4329-96B0-D78C1EE21F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Une mise en oeuvre réussie requi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avoir l’engagement de la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 comprendre les bénéfices d’un système de gestion de la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engager le personnel à tous les nive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ayer d’améliorer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inuel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avoir des attente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lis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12" descr="meeting_africa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Espace réservé du pied de page 2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600CD-280F-494E-A8F5-76D8F6688C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20" descr="MCDD01419_0000[1]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8" descr="MCj02927140000[1]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5" descr="MCBS01762_0000[1]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6" descr="MCj03636380000[1]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16" name="Group 23"/>
          <p:cNvGrpSpPr/>
          <p:nvPr/>
        </p:nvGrpSpPr>
        <p:grpSpPr>
          <a:xfrm>
            <a:off x="4800600" y="2133720"/>
            <a:ext cx="4800600" cy="4390920"/>
            <a:chOff x="4800600" y="2133720"/>
            <a:chExt cx="4800600" cy="4390920"/>
          </a:xfrm>
        </p:grpSpPr>
        <p:sp>
          <p:nvSpPr>
            <p:cNvPr id="317" name="AutoShape 22"/>
            <p:cNvSpPr/>
            <p:nvPr/>
          </p:nvSpPr>
          <p:spPr>
            <a:xfrm>
              <a:off x="4800600" y="2133720"/>
              <a:ext cx="4800600" cy="43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_s195610"/>
            <p:cNvSpPr/>
            <p:nvPr/>
          </p:nvSpPr>
          <p:spPr>
            <a:xfrm>
              <a:off x="6339600" y="2752200"/>
              <a:ext cx="1722960" cy="2397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_s195611"/>
            <p:cNvSpPr/>
            <p:nvPr/>
          </p:nvSpPr>
          <p:spPr>
            <a:xfrm rot="7200000">
              <a:off x="6238080" y="3655800"/>
              <a:ext cx="2397600" cy="17233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_s195613"/>
            <p:cNvSpPr/>
            <p:nvPr/>
          </p:nvSpPr>
          <p:spPr>
            <a:xfrm rot="14400000">
              <a:off x="5767200" y="3658680"/>
              <a:ext cx="2397600" cy="17229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4" name="Picture 34" descr="bd20208_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35" descr="MCj04247500000[1]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36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37" descr="MCj02120510000[1]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38"/>
          <p:cNvSpPr/>
          <p:nvPr/>
        </p:nvSpPr>
        <p:spPr>
          <a:xfrm>
            <a:off x="152280" y="533520"/>
            <a:ext cx="3810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e l’intention à l’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44FFA-7339-4432-AF38-498BD5933D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e l’intention à l’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ssigner la responsabilité de la mise en plac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llouer des ressourc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évelopper et distribuer un manuel qualité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mmencer la mise en place 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ntrôler la conformité à la politique qualité et aux exigences du système de gestion de la qualit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73895-4500-4BC7-B6E2-0C89B0515D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44" descr="bulles_def"/>
          <p:cNvPicPr/>
          <p:nvPr/>
        </p:nvPicPr>
        <p:blipFill>
          <a:blip r:embed="rId1"/>
          <a:stretch/>
        </p:blipFill>
        <p:spPr>
          <a:xfrm>
            <a:off x="2138400" y="1095480"/>
            <a:ext cx="4867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920C-6AFA-4949-AB86-D80342115B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8" descr="MCj03963580000[1]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appelez v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a Qualité n’est pas une science, c’est une manière de pen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Le temps investi aujourd’hui 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ermettra d’obten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s résultats de qualité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efficacité certa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satisfaction personnelle et professionnelle 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reconnaissance de vos p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D3853-7DD8-4EDA-87D6-04994FC006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i est responsable de la qualité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6" descr="CamPic394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7" descr="small_group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8" descr="7285_lores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3" descr="meeting_asia_1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4" descr="equip_calibrate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5" descr="uniocular_mic_cdc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47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Chacun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A0CEE-F2F9-4D18-BC06-8B51A6C888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638320" y="1904760"/>
            <a:ext cx="35053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Arial"/>
              </a:rPr>
              <a:t>Commentair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65" descr="bulles_def"/>
          <p:cNvPicPr/>
          <p:nvPr/>
        </p:nvPicPr>
        <p:blipFill>
          <a:blip r:embed="rId1"/>
          <a:stretch/>
        </p:blipFill>
        <p:spPr>
          <a:xfrm>
            <a:off x="380880" y="1066680"/>
            <a:ext cx="486756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097B6-F6C1-4194-B9A8-D1DAB3ED57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9"/>
          <p:cNvGrpSpPr/>
          <p:nvPr/>
        </p:nvGrpSpPr>
        <p:grpSpPr>
          <a:xfrm>
            <a:off x="3657600" y="3581280"/>
            <a:ext cx="3962520" cy="2079360"/>
            <a:chOff x="3657600" y="3581280"/>
            <a:chExt cx="3962520" cy="2079360"/>
          </a:xfrm>
        </p:grpSpPr>
        <p:sp>
          <p:nvSpPr>
            <p:cNvPr id="140" name="AutoShape 18"/>
            <p:cNvSpPr/>
            <p:nvPr/>
          </p:nvSpPr>
          <p:spPr>
            <a:xfrm>
              <a:off x="3657600" y="3581280"/>
              <a:ext cx="3962520" cy="20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1" name="_s7194"/>
            <p:cNvCxnSpPr>
              <a:stCxn id="142" idx="0"/>
              <a:endCxn id="14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4" name="_s7193"/>
            <p:cNvCxnSpPr>
              <a:stCxn id="145" idx="0"/>
              <a:endCxn id="14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6" name="_s7192"/>
            <p:cNvCxnSpPr>
              <a:stCxn id="147" idx="0"/>
              <a:endCxn id="14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ssentiel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3124080" y="1295280"/>
            <a:ext cx="5791320" cy="23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gagement pour une gestion soigneuse du systè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ne structure organisée conçue pour atteindre les objectifs de qualit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MPj04017350000[1]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9A8EE-19C0-46C8-969E-A4BE64E33C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Mise en oeuv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Processus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 de plan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Contrôle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et améli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22"/>
          <p:cNvSpPr/>
          <p:nvPr/>
        </p:nvSpPr>
        <p:spPr>
          <a:xfrm rot="5400000">
            <a:off x="1218600" y="2286000"/>
            <a:ext cx="1523880" cy="76212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23"/>
          <p:cNvSpPr/>
          <p:nvPr/>
        </p:nvSpPr>
        <p:spPr>
          <a:xfrm rot="10800000">
            <a:off x="4114800" y="2743200"/>
            <a:ext cx="914400" cy="99072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24"/>
          <p:cNvSpPr/>
          <p:nvPr/>
        </p:nvSpPr>
        <p:spPr>
          <a:xfrm rot="5400000">
            <a:off x="6858000" y="2514600"/>
            <a:ext cx="1981440" cy="91440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31"/>
          <p:cNvGrpSpPr/>
          <p:nvPr/>
        </p:nvGrpSpPr>
        <p:grpSpPr>
          <a:xfrm>
            <a:off x="685800" y="3505320"/>
            <a:ext cx="2590920" cy="2361240"/>
            <a:chOff x="685800" y="3505320"/>
            <a:chExt cx="2590920" cy="2361240"/>
          </a:xfrm>
        </p:grpSpPr>
        <p:sp>
          <p:nvSpPr>
            <p:cNvPr id="160" name="AutoShape 30"/>
            <p:cNvSpPr/>
            <p:nvPr/>
          </p:nvSpPr>
          <p:spPr>
            <a:xfrm>
              <a:off x="685800" y="3505320"/>
              <a:ext cx="2590920" cy="236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1" name="_s8230"/>
            <p:cNvCxnSpPr>
              <a:stCxn id="162" idx="0"/>
              <a:endCxn id="163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4" name="_s8229"/>
            <p:cNvCxnSpPr>
              <a:stCxn id="165" idx="0"/>
              <a:endCxn id="163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6" name="_s8228"/>
            <p:cNvCxnSpPr>
              <a:stCxn id="167" idx="0"/>
              <a:endCxn id="163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3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AutoShape 39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Direction, Rôles de 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1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Verdana"/>
              </a:rPr>
              <a:t>Structure</a:t>
            </a:r>
            <a:br>
              <a:rPr sz="1600"/>
            </a:br>
            <a:r>
              <a:rPr b="1" lang="fr-FR" sz="1600" spc="-1" strike="noStrike">
                <a:solidFill>
                  <a:srgbClr val="ffffff"/>
                </a:solidFill>
                <a:latin typeface="Verdana"/>
              </a:rPr>
              <a:t> organisationn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2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3"/>
          <p:cNvSpPr/>
          <p:nvPr/>
        </p:nvSpPr>
        <p:spPr>
          <a:xfrm rot="5400000">
            <a:off x="5520960" y="1946160"/>
            <a:ext cx="838080" cy="75564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44"/>
          <p:cNvSpPr/>
          <p:nvPr/>
        </p:nvSpPr>
        <p:spPr>
          <a:xfrm rot="5400000">
            <a:off x="4495680" y="4495680"/>
            <a:ext cx="1143000" cy="175248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0D79A-4C0A-4A84-ABB9-2812BBBEE4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181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ptitude à diri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exerçant un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utorité responsabl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motivant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t donnant une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influençant et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courageant l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ersonnel pour d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bonnes perform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6" descr="10031_lores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15087-4A4F-43DD-9E95-6A3828D199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sponsabilités des dirige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ise en oeuvre et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mélioration continue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u système de gestion de la qualité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ocumenter et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mmuniquer à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out le personnel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ournir un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anuel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9" descr="a_19"/>
          <p:cNvPicPr/>
          <p:nvPr/>
        </p:nvPicPr>
        <p:blipFill>
          <a:blip r:embed="rId1"/>
          <a:stretch/>
        </p:blipFill>
        <p:spPr>
          <a:xfrm>
            <a:off x="3733920" y="2666880"/>
            <a:ext cx="502920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D39E0-DFE4-49FD-AD5E-6C256AD849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4" descr="j0385407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ngagement de la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Black"/>
              </a:rPr>
              <a:t>Ministère de la San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5181480" y="1219320"/>
            <a:ext cx="3276720" cy="82548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Gestion financi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2" descr="supplier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90" name="Picture 23" descr="j0216070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1" descr="head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192" name="PubOvalCallout"/>
          <p:cNvSpPr/>
          <p:nvPr/>
        </p:nvSpPr>
        <p:spPr>
          <a:xfrm rot="16200000">
            <a:off x="4038480" y="3885840"/>
            <a:ext cx="2057400" cy="34290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unions du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76657-CA15-410B-8214-563019531B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ructure Organisationnel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609480" y="1447920"/>
            <a:ext cx="777240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une structure de travail qui assure un flux suffisant dans toutes les parties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igner rôles et responsabil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velopper un organi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signer un responsable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llouer des ressources suffis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8T13:01:43Z</dcterms:modified>
  <cp:revision>132</cp:revision>
  <dc:subject/>
  <dc:title>Slide 1</dc:title>
</cp:coreProperties>
</file>